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DBAA1A-6758-4E01-B227-A99FDADE8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7CD2C5-A7CE-45AE-8947-DBDD08972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FB130F-5247-4304-A59E-9CAD2C203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7B0B62-FEBE-47C2-B6EE-7E4240768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526D45-8B0D-479C-9B36-56687E7ED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0ADD23-1565-489C-BFBD-3F7E4C968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0E822F-78A7-4726-BEFA-4DD329365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9ABFDE-BDC4-49A3-9D14-568F59EAB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81B1F3-98A8-4E07-BFE0-640B4C9F7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48DC33-C3E5-4D74-A28B-E6C8D79E0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19076E-AD12-4F8B-BDD3-F9CC7ED9C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006D33-88ED-4B9A-ABBC-0E0D08798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08BEF9-8852-47AE-8505-129E62F1E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C27BE3-A739-40B7-B7D5-30212C3B9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0D1A9E-754B-4132-A632-2C7C7D480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4F17B5-6805-4170-8A8E-EC9B39053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2D8934-FF1E-495D-A4F5-BCA576270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A947F9-67A9-4433-A8AD-109BC1EA8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6D17B0-32FA-4160-819E-4C9008642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A92118-26D1-4C9E-85FB-63D23144F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AC5486-91DB-418B-851E-5C935A4D1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31F3EA-AB43-466F-9B50-8026B949E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F40338-B568-421B-877A-BE6E0E8E8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AADF16-4EA6-4037-94D7-883DFEF81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98ACAF-2D31-48B1-AADD-86E9C810E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4C977F-BDDD-4176-AC4F-2C2C03191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7F8D6E-0F6D-4A2E-A0BF-D3373DB85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F0E199-8802-41F6-ADEA-D86A42BCB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7ADAB5-189D-4102-9EC6-BAE374862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CEC7F0-CDA9-475E-9332-40B549D8A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5F2AE-FC46-4FF9-AC12-01A62E49E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8ED0DF-4715-466D-8F3A-AF33E02AD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F59FAF-AACB-44E0-BB44-F6FB328A8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8AE061-2C8B-4A2C-AA96-0426A1003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38EAC0-B3AB-4D2B-A345-177ABD2B3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078077-AC3C-4937-9A50-18E449D74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EF1535-ED3A-4AF8-B486-9E571558A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0CA274-7AFB-4352-91B7-68DE02774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816B0C-7C80-4E16-8D85-3428ADA9B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23206C-5B19-4161-BD44-53CA8F3AE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8BE8B5-EF73-4681-9D8B-96A354B73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2F2CE-C543-4301-B00A-666F455E4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910733-F9C5-4986-B923-BE26C9595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085D4B-BB32-4406-B437-04A6779A2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E5728B-F90C-4FFC-85F6-BFC7788C2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8FCA42-3B80-4F28-9412-E67785D32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8A008B-1708-4799-93AD-1E1606A89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1EEFA-3CDC-477A-BF90-491A65107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1CD25-A00F-47CD-AB10-BC301D906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4674D-206B-4C9F-845D-8261590FD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74DD8-D02E-41F0-A7D5-587549E83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4E1C0-3B7B-408E-BD50-0205281AC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78D14-8AEE-45A2-8D6B-C516B5830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52039-52F9-45C6-BDAA-03F88FA00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7090E-959A-4B1C-841A-D79B59808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A143A-EED3-4FD5-AE7F-4009F999B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03BE9-0CEF-4978-A63E-74DA19A52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DC209-4892-4A56-B48B-7C8D2C604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A6A3F-1233-4458-A793-810E6B66A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4783A-094D-447C-80D7-E547EB78D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5FAD1-C1A9-4B67-BD3C-EB7F04EEE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021DF-5223-4C8E-92CF-78E9C3259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24A58-E7EC-4BF4-90C5-7748F9B02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0F9F1-BB8D-4BE4-BE82-2CEC23F6E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91B27-9A9C-4ABE-99D5-B52698CB1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679DE-1701-4A3C-8066-E4B451A47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9DE09-5688-4AEE-8C99-AC947E40D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1E29C-6723-492D-90C7-FC6CCC66F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4D627-DA41-47AC-BF05-04A189A4E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3627C1-FF27-4EC5-9F53-580B99BBF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9F79CB-76AA-4035-8D32-70F08C8FF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777D83-1699-4E48-85F5-ECD8C4AB2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B43C2D-14CA-4F0D-BF8C-FE5376140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602DD2-C14F-4705-AE4F-B25A071F8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720AB7-6E98-4620-A6C2-F50C1CED2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95AC59-7112-47A6-B674-6F659FA3F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6513B9-21FD-40A0-8132-922960AD7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BC0494-2531-4041-B2C1-D41011396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1F93CB-F0E3-4626-8CA9-258751259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B39C13-4361-436F-9EB0-339861B5D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920B40-9E02-4D00-92B4-F0A25CDB1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D496DD-4B0E-490B-AC58-5F354F2B2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5302CB-542A-46E2-AD53-5C0995D70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AE1401-DE35-4452-BD4B-08242D604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9FBEA3-D5B7-4D79-9B4A-8A8169A3E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A04D55-8929-474D-9C91-F1B2A135E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A90961-C6C4-4C9F-B2A9-AC5AD09F3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4C0F11-5EC4-4A88-BC48-E5AA223C3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BA297F-9E37-4F1D-BC64-2052BD73D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C328EF-7B5F-4AD8-87FA-3903A25C1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74B201-7B6F-4706-890F-E29B06F52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245B40-616F-4C27-BD5D-67E24C9AF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86A20A-5151-4190-A520-EE10949A9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3CEBA7-69F8-4727-B199-31BA515D8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8F8912-604D-402F-AFCA-E64AB6DC1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B77B3C-22DB-4171-B096-71C81C0E8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2DC2C3-A02E-4D36-8EBF-0509BFC63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E87C30-242E-48DB-BF59-0B2601C9F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98EF5F-D2CB-42B6-A0E6-B244AA43A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59A0D1-D22B-419A-B2A8-48C694428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93D3A9-F5B8-4FB7-ADFB-4424A1689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678B6E-2419-4790-AC6C-61E279133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2942B4-4EB2-4A85-82FD-F9132EAD2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4E501B-0A18-4317-BB9D-195D73465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603A7C-A034-4E89-BFAF-7E467581C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4654AE-F68B-4EC5-8423-B807596F2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5DFEF7-4D66-4C2F-BF78-BBAC0B40C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331F93-E877-428D-9099-85ABCA0DA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52FCBF-FE2F-488B-BA61-9FD02E8A2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B1398A-0542-4042-8A98-78648BC2E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519F47-3DD3-4DD6-864E-324B02A5D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B5221B-5802-44F2-874D-5404C41B8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FB013D-0121-49FC-8F0A-540C9953F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CABDDD-2BE7-4415-A2F6-1EDD8493E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7A4363-2F8A-487A-B70E-84E589180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183622-1165-43F3-BF92-059850BDD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A6C163-3C8E-4148-979A-5C0FFF359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2C66C1-757C-44CF-935B-47241AA58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D97952-D2BE-4767-8244-06B52EF30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4071BD-2510-4816-9E29-D3484C197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FF0908-D9FF-4E16-9581-D7740D7D3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E43A41-9AA3-477D-90F8-294D17DE1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78718C-76FC-4F5C-B4A4-0D1991844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383968-8AC8-49E6-B412-8BDEBD518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FF88B8-EE49-4811-A7AA-377D2B618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8DCDD0-EB89-4B0A-80D7-49E37F185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1D751F-C8AA-4BCE-9032-C8D907620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747AE3-497A-4B4C-AC36-FBA679618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B3DF2E-F9B8-44C6-98B4-7C5F0441A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D1F30D-62A4-42EF-B815-C0F0D95C6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D926FC-ECF1-46FC-866D-6461D446A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BBCDA9-E2CB-45D7-86A5-2B961D0FA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09.xml"/><Relationship Id="rId8" Type="http://schemas.openxmlformats.org/officeDocument/2006/relationships/slideLayout" Target="../slideLayouts/slideLayout110.xml"/><Relationship Id="rId9" Type="http://schemas.openxmlformats.org/officeDocument/2006/relationships/slideLayout" Target="../slideLayouts/slideLayout111.xml"/><Relationship Id="rId10" Type="http://schemas.openxmlformats.org/officeDocument/2006/relationships/slideLayout" Target="../slideLayouts/slideLayout112.xml"/><Relationship Id="rId11" Type="http://schemas.openxmlformats.org/officeDocument/2006/relationships/slideLayout" Target="../slideLayouts/slideLayout113.xml"/><Relationship Id="rId12" Type="http://schemas.openxmlformats.org/officeDocument/2006/relationships/slideLayout" Target="../slideLayouts/slideLayout114.xml"/><Relationship Id="rId13" Type="http://schemas.openxmlformats.org/officeDocument/2006/relationships/slideLayout" Target="../slideLayouts/slideLayout115.xml"/><Relationship Id="rId14" Type="http://schemas.openxmlformats.org/officeDocument/2006/relationships/slideLayout" Target="../slideLayouts/slideLayout116.xml"/><Relationship Id="rId15" Type="http://schemas.openxmlformats.org/officeDocument/2006/relationships/slideLayout" Target="../slideLayouts/slideLayout117.xml"/><Relationship Id="rId16" Type="http://schemas.openxmlformats.org/officeDocument/2006/relationships/slideLayout" Target="../slideLayouts/slideLayout118.xml"/><Relationship Id="rId17" Type="http://schemas.openxmlformats.org/officeDocument/2006/relationships/slideLayout" Target="../slideLayouts/slideLayout119.xml"/><Relationship Id="rId18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33.xml"/><Relationship Id="rId8" Type="http://schemas.openxmlformats.org/officeDocument/2006/relationships/slideLayout" Target="../slideLayouts/slideLayout134.xml"/><Relationship Id="rId9" Type="http://schemas.openxmlformats.org/officeDocument/2006/relationships/slideLayout" Target="../slideLayouts/slideLayout135.xml"/><Relationship Id="rId10" Type="http://schemas.openxmlformats.org/officeDocument/2006/relationships/slideLayout" Target="../slideLayouts/slideLayout136.xml"/><Relationship Id="rId11" Type="http://schemas.openxmlformats.org/officeDocument/2006/relationships/slideLayout" Target="../slideLayouts/slideLayout137.xml"/><Relationship Id="rId12" Type="http://schemas.openxmlformats.org/officeDocument/2006/relationships/slideLayout" Target="../slideLayouts/slideLayout138.xml"/><Relationship Id="rId13" Type="http://schemas.openxmlformats.org/officeDocument/2006/relationships/slideLayout" Target="../slideLayouts/slideLayout139.xml"/><Relationship Id="rId14" Type="http://schemas.openxmlformats.org/officeDocument/2006/relationships/slideLayout" Target="../slideLayouts/slideLayout140.xml"/><Relationship Id="rId15" Type="http://schemas.openxmlformats.org/officeDocument/2006/relationships/slideLayout" Target="../slideLayouts/slideLayout141.xml"/><Relationship Id="rId16" Type="http://schemas.openxmlformats.org/officeDocument/2006/relationships/slideLayout" Target="../slideLayouts/slideLayout142.xml"/><Relationship Id="rId17" Type="http://schemas.openxmlformats.org/officeDocument/2006/relationships/slideLayout" Target="../slideLayouts/slideLayout143.xml"/><Relationship Id="rId18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73.xml"/><Relationship Id="rId8" Type="http://schemas.openxmlformats.org/officeDocument/2006/relationships/slideLayout" Target="../slideLayouts/slideLayout74.xml"/><Relationship Id="rId9" Type="http://schemas.openxmlformats.org/officeDocument/2006/relationships/slideLayout" Target="../slideLayouts/slideLayout75.xml"/><Relationship Id="rId10" Type="http://schemas.openxmlformats.org/officeDocument/2006/relationships/slideLayout" Target="../slideLayouts/slideLayout76.xml"/><Relationship Id="rId11" Type="http://schemas.openxmlformats.org/officeDocument/2006/relationships/slideLayout" Target="../slideLayouts/slideLayout77.xml"/><Relationship Id="rId12" Type="http://schemas.openxmlformats.org/officeDocument/2006/relationships/slideLayout" Target="../slideLayouts/slideLayout78.xml"/><Relationship Id="rId13" Type="http://schemas.openxmlformats.org/officeDocument/2006/relationships/slideLayout" Target="../slideLayouts/slideLayout79.xml"/><Relationship Id="rId14" Type="http://schemas.openxmlformats.org/officeDocument/2006/relationships/slideLayout" Target="../slideLayouts/slideLayout80.xml"/><Relationship Id="rId15" Type="http://schemas.openxmlformats.org/officeDocument/2006/relationships/slideLayout" Target="../slideLayouts/slideLayout81.xml"/><Relationship Id="rId16" Type="http://schemas.openxmlformats.org/officeDocument/2006/relationships/slideLayout" Target="../slideLayouts/slideLayout82.xml"/><Relationship Id="rId17" Type="http://schemas.openxmlformats.org/officeDocument/2006/relationships/slideLayout" Target="../slideLayouts/slideLayout83.xml"/><Relationship Id="rId18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85.xml"/><Relationship Id="rId8" Type="http://schemas.openxmlformats.org/officeDocument/2006/relationships/slideLayout" Target="../slideLayouts/slideLayout86.xml"/><Relationship Id="rId9" Type="http://schemas.openxmlformats.org/officeDocument/2006/relationships/slideLayout" Target="../slideLayouts/slideLayout87.xml"/><Relationship Id="rId10" Type="http://schemas.openxmlformats.org/officeDocument/2006/relationships/slideLayout" Target="../slideLayouts/slideLayout88.xml"/><Relationship Id="rId11" Type="http://schemas.openxmlformats.org/officeDocument/2006/relationships/slideLayout" Target="../slideLayouts/slideLayout89.xml"/><Relationship Id="rId12" Type="http://schemas.openxmlformats.org/officeDocument/2006/relationships/slideLayout" Target="../slideLayouts/slideLayout90.xml"/><Relationship Id="rId13" Type="http://schemas.openxmlformats.org/officeDocument/2006/relationships/slideLayout" Target="../slideLayouts/slideLayout91.xml"/><Relationship Id="rId14" Type="http://schemas.openxmlformats.org/officeDocument/2006/relationships/slideLayout" Target="../slideLayouts/slideLayout92.xml"/><Relationship Id="rId15" Type="http://schemas.openxmlformats.org/officeDocument/2006/relationships/slideLayout" Target="../slideLayouts/slideLayout93.xml"/><Relationship Id="rId16" Type="http://schemas.openxmlformats.org/officeDocument/2006/relationships/slideLayout" Target="../slideLayouts/slideLayout94.xml"/><Relationship Id="rId17" Type="http://schemas.openxmlformats.org/officeDocument/2006/relationships/slideLayout" Target="../slideLayouts/slideLayout95.xml"/><Relationship Id="rId18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2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4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399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2F237-AEC7-43FA-ACB2-D618161C194B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7"/>
    <p:sldLayoutId id="2147483767" r:id="rId8"/>
    <p:sldLayoutId id="2147483768" r:id="rId9"/>
    <p:sldLayoutId id="2147483769" r:id="rId10"/>
    <p:sldLayoutId id="2147483770" r:id="rId11"/>
    <p:sldLayoutId id="2147483771" r:id="rId12"/>
    <p:sldLayoutId id="2147483772" r:id="rId13"/>
    <p:sldLayoutId id="2147483773" r:id="rId14"/>
    <p:sldLayoutId id="2147483774" r:id="rId15"/>
    <p:sldLayoutId id="2147483775" r:id="rId16"/>
    <p:sldLayoutId id="2147483776" r:id="rId17"/>
    <p:sldLayoutId id="2147483777" r:id="rId18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443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444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5FCA7-0C09-42BC-81B4-B09B26CEC802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485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486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487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488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49F4D-079A-484D-842D-348898EDD79D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7"/>
    <p:sldLayoutId id="2147483793" r:id="rId8"/>
    <p:sldLayoutId id="2147483794" r:id="rId9"/>
    <p:sldLayoutId id="2147483795" r:id="rId10"/>
    <p:sldLayoutId id="2147483796" r:id="rId11"/>
    <p:sldLayoutId id="2147483797" r:id="rId12"/>
    <p:sldLayoutId id="2147483798" r:id="rId13"/>
    <p:sldLayoutId id="2147483799" r:id="rId14"/>
    <p:sldLayoutId id="2147483800" r:id="rId15"/>
    <p:sldLayoutId id="2147483801" r:id="rId16"/>
    <p:sldLayoutId id="2147483802" r:id="rId17"/>
    <p:sldLayoutId id="2147483803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45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4D5FA-1C03-47AF-B435-58054E147CAA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89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F04DC-FAEA-47D6-B667-E02A8F4B8481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135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03178-3859-4ED8-B7C9-3E919748BA51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179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E1E0B-E29D-478F-9BC3-6CC67CEB824D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223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224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755D1-600A-43C2-B877-61B6856F1538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267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268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05E5B-7DEF-41D9-9956-8CB96A6C388D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7"/>
    <p:sldLayoutId id="2147483728" r:id="rId8"/>
    <p:sldLayoutId id="2147483729" r:id="rId9"/>
    <p:sldLayoutId id="2147483730" r:id="rId10"/>
    <p:sldLayoutId id="2147483731" r:id="rId11"/>
    <p:sldLayoutId id="2147483732" r:id="rId12"/>
    <p:sldLayoutId id="2147483733" r:id="rId13"/>
    <p:sldLayoutId id="2147483734" r:id="rId14"/>
    <p:sldLayoutId id="2147483735" r:id="rId15"/>
    <p:sldLayoutId id="2147483736" r:id="rId16"/>
    <p:sldLayoutId id="2147483737" r:id="rId17"/>
    <p:sldLayoutId id="2147483738" r:id="rId18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311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312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A04F0-D032-45A2-8194-C3C99C768185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7"/>
    <p:sldLayoutId id="2147483741" r:id="rId8"/>
    <p:sldLayoutId id="2147483742" r:id="rId9"/>
    <p:sldLayoutId id="2147483743" r:id="rId10"/>
    <p:sldLayoutId id="2147483744" r:id="rId11"/>
    <p:sldLayoutId id="2147483745" r:id="rId12"/>
    <p:sldLayoutId id="2147483746" r:id="rId13"/>
    <p:sldLayoutId id="2147483747" r:id="rId14"/>
    <p:sldLayoutId id="2147483748" r:id="rId15"/>
    <p:sldLayoutId id="2147483749" r:id="rId16"/>
    <p:sldLayoutId id="2147483750" r:id="rId17"/>
    <p:sldLayoutId id="2147483751" r:id="rId18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355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356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47322-6E88-479F-A88D-D509F8FF1028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85716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Descentralização da Gestão do município de Ponte Alta do Bom Jesu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Espaço Reservado para Número de Slid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A7C73-D0E1-4F63-9FDB-17C49B1C8470}" type="slidenum">
              <a:rPr b="0" lang="pt-B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9" name="Tabela 4" descr=""/>
          <p:cNvPicPr/>
          <p:nvPr/>
        </p:nvPicPr>
        <p:blipFill>
          <a:blip r:embed="rId1"/>
          <a:stretch/>
        </p:blipFill>
        <p:spPr>
          <a:xfrm>
            <a:off x="212760" y="1712880"/>
            <a:ext cx="8077320" cy="519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16T12:40:42Z</dcterms:created>
  <dc:creator>Cleison Lima Moura</dc:creator>
  <dc:description/>
  <dc:language>en-US</dc:language>
  <cp:lastModifiedBy>marleidesilva</cp:lastModifiedBy>
  <cp:lastPrinted>2017-04-12T15:53:19Z</cp:lastPrinted>
  <dcterms:modified xsi:type="dcterms:W3CDTF">2017-04-19T19:16:40Z</dcterms:modified>
  <cp:revision>929</cp:revision>
  <dc:subject/>
  <dc:title>Apresentação do PowerPoint</dc:title>
</cp:coreProperties>
</file>